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2A3-98CA-4E03-97FD-EB77476F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7D7-591B-442E-A915-FEC70211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DC4-FD2B-4C1E-A989-068BA396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C3A-B842-4F6E-8C19-EB23855B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F92-730B-404E-A750-20A7CF3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5BF-061B-4CF0-BA90-64740E6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676-54DF-4730-B534-4CE2784B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DF6-7097-43E5-8CC0-C69FD2C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025-F3FC-427D-A854-8F61CB3E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80C-3D7D-49CA-A807-24E03181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C0C-D62E-4961-B6DB-656069B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07C-6E0F-4274-8B10-614E371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8D03-53C4-4148-BF24-D5B67339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QUIRY QUEST PROCES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1981080" cy="304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4495320" y="160020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>
            <a:off x="449532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>
            <a:off x="457200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676520"/>
            <a:ext cx="76176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514600"/>
            <a:ext cx="1600200" cy="4572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 flipV="1">
            <a:off x="2590560" y="1828800"/>
            <a:ext cx="106740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>
            <a:off x="1447560" y="2209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533520" y="2819520"/>
            <a:ext cx="1981080" cy="6094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3712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33520" y="3962520"/>
            <a:ext cx="2133360" cy="7617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quiry Quest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257800"/>
            <a:ext cx="99036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25780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533376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5181120" y="3048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8320" y="3657600"/>
            <a:ext cx="1600200" cy="533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5181120" y="4191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572000" y="4724280"/>
            <a:ext cx="1981080" cy="6098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715000"/>
            <a:ext cx="1600200" cy="533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5105520" y="5334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1"/>
          </p:cNvCxnSpPr>
          <p:nvPr/>
        </p:nvCxnSpPr>
        <p:spPr>
          <a:xfrm flipV="1" rot="10800000">
            <a:off x="1980000" y="5029200"/>
            <a:ext cx="2592000" cy="76680"/>
          </a:xfrm>
          <a:prstGeom prst="bentConnector3">
            <a:avLst>
              <a:gd name="adj1" fmla="val 544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3" idx="1"/>
          </p:cNvCxnSpPr>
          <p:nvPr/>
        </p:nvCxnSpPr>
        <p:spPr>
          <a:xfrm rot="10800000">
            <a:off x="913320" y="5714640"/>
            <a:ext cx="3810960" cy="267480"/>
          </a:xfrm>
          <a:prstGeom prst="bentConnector3">
            <a:avLst>
              <a:gd name="adj1" fmla="val 530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5400000">
            <a:off x="2418840" y="3371760"/>
            <a:ext cx="2477160" cy="167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010280" y="2971800"/>
            <a:ext cx="1676520" cy="18288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6324480" y="2819160"/>
            <a:ext cx="610560" cy="5338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endCxn id="68" idx="1"/>
          </p:cNvCxnSpPr>
          <p:nvPr/>
        </p:nvCxnSpPr>
        <p:spPr>
          <a:xfrm>
            <a:off x="6400440" y="3809880"/>
            <a:ext cx="610200" cy="76680"/>
          </a:xfrm>
          <a:prstGeom prst="curvedConnector3">
            <a:avLst>
              <a:gd name="adj1" fmla="val 243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endCxn id="68" idx="2"/>
          </p:cNvCxnSpPr>
          <p:nvPr/>
        </p:nvCxnSpPr>
        <p:spPr>
          <a:xfrm flipH="1" flipV="1" rot="5400000">
            <a:off x="7146360" y="4174560"/>
            <a:ext cx="185040" cy="12200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H="1" flipV="1" rot="5400000">
            <a:off x="6476760" y="495252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/>
          <p:nvPr/>
        </p:nvCxnSpPr>
        <p:spPr>
          <a:xfrm flipV="1" rot="10800000">
            <a:off x="2742480" y="4266000"/>
            <a:ext cx="4191840" cy="2293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V="1">
            <a:off x="1676520" y="472356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410080" y="2971800"/>
            <a:ext cx="1371600" cy="609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4:09:47Z</dcterms:created>
  <dc:creator>Suzanne and Curt Libra Williams 2</dc:creator>
  <dc:description/>
  <dc:language>en-US</dc:language>
  <cp:lastModifiedBy>Suzanne and Curt Libra Williams 2</cp:lastModifiedBy>
  <dcterms:modified xsi:type="dcterms:W3CDTF">2010-04-14T04:16:34Z</dcterms:modified>
  <cp:revision>2</cp:revision>
  <dc:subject/>
  <dc:title>INQUIRY QUEST PROCESS CHART</dc:title>
</cp:coreProperties>
</file>